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6F4-B7FA-49B9-B031-8B381C3F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192-1E6E-44CB-924F-B1735C31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630E0-04A0-43A8-8470-AE5FFB87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3531B-F5D8-4B60-BF01-92BAC53B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33144-975F-41CF-93BC-8E9B7B69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202A8-0B5F-4C2A-9DEE-E10D756D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FE856-4038-4E71-866B-E18CBEA7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99CE1-7EF0-4D64-9B69-6F3958A6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C00AB-6D13-4142-9E4C-F4F81C63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72D1F-C88B-411D-B4E4-5B719D96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F70D7-B1E6-43A6-BF97-CA3FF18D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5A95D-5609-4F42-994B-8A333CDE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20B-F57E-4C66-89E8-ECC51BD9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2D645-1F19-4D2F-BE70-2C341AE1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0F2AA-97DD-4DC8-AC1C-DB2C7D75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B12A5-5B17-468A-AE63-5E319801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1D2E4-3D68-4071-B2B5-830AB6EF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09C6E-6B47-40D6-B452-EA9011CF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05F52-C74C-4B34-B6AA-C5D6CCCA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29238-D633-44F5-93FC-F7E6CAC5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2B492-806B-4ABD-BEC3-C82DB325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B24E8-1116-425B-84F5-B336BF23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9F542-35C3-4B9B-B9A3-31873313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D54-9AB5-4453-A40F-3F9DA0B6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21F8D-944F-4D30-870A-43D0E4B7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5D9E7-FBBD-4495-B060-FC34FD6B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481BA-3DE9-4C26-9006-82E093AC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FB5DC-59D3-4BC6-9B94-092A618B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ED46B-FC05-4615-BDB2-FC879020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41A04-301F-43AD-AF5F-CAD46B69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38302-0539-4334-997F-4EF15AB4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E20A3-FA58-41F5-B359-197C291D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08E33-50C0-45FA-B639-66666D73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6DFFE-9C41-4BD5-A4E5-3C4BFCA2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6F76-16B2-4768-A794-E3196FAC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7020D-C711-4A49-93F8-B17E1DED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DE2E7-7DCD-482D-B5D6-DA0B85AA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F50B2-E3F7-448A-8AFA-6988C060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4E0C9-0BF9-4CB7-9BCA-939B70D6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5A0D9-3784-4EEB-8EF8-243CD0E9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C30F5-D11F-4922-B6CB-4A1EFC94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069D1-582E-4E7E-99FF-1243DF6B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B321A-EE33-45FF-B110-8C4BF5D3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8B243-E44A-41BE-8ABC-87492FC3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F4147-34C4-4BCD-A14A-8667CAC1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A80D-A2D7-4214-806D-B8F0A19A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62DAD-BCED-4E86-B3E3-AD2D09AA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78CF9-C3E5-4817-B1ED-A9B657BA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0ECE6-0A57-48DB-AE3A-9882E5EF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FE534-2999-42FE-9173-8214BF79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53688-B37E-4F2F-9425-6B290CF0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E08C4-E25D-4DF9-83FF-21B5B89E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ADA27-0C9E-4651-BC4C-A87E8C35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F7183-3293-44F9-ADC4-DEEED4F3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B81DD2-FF3C-4A4D-A8DB-F2B37E10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1656E-F366-4D87-8512-952AA1BA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0DD5-4114-44EE-832D-ED2D5C4D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71126-B874-48B1-AB70-14A2DB57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37A1C-7C13-441E-9D1D-71BBE73D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13ED0-2DBE-4B34-B518-6FEFFC49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C0613-655B-4B88-9293-F0D4E71C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1DFFB-0601-41C4-9E68-C4265776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B5678-F9A9-44FC-AE93-5A4C3619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996A3C-15C3-4CCC-AF63-D0EA9C8F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930169-899A-4C51-A364-B8A313CC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B6DC4-16AD-412B-9D63-372E5763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635AB3-0D8A-4E69-AC0E-7DD8198F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4C98-61D2-4E18-871A-3180547F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36D25-60B2-4E9E-BC64-F609ABDC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BD5719-AB5F-4103-B1BA-57953FF0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FEDF38-2AA7-4931-A5E1-15D86ACF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CAB54-DA1E-4D55-BC0E-2AB50E2B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DB33F8-B668-4D04-B64B-ABA6EC30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39CD4E-1848-4ABF-8743-C425366F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11BA70-35F1-40B1-AFAC-52FD5408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E7D0D-41EB-4D42-AEB7-386E53A7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FB4FA-9161-401D-83F1-4B4F2289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4E048-6602-4674-B106-FDFEBD51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A200-DBEE-4A41-AC8D-1B01644E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CFDB8A-7217-4C1E-A63F-5EA45CCF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E385E3-AEF7-4BCD-BE94-EDC9E4BB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DFBDB7-A3FB-41D7-AB82-ABEACD19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7491EA-56E8-461D-9C6A-D015743C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7215E3-1B82-4A67-A4C9-56C0C4D9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D15DA5-4537-4A73-A5C0-23ABBD43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C5DF6-07C5-4447-9D86-644BC233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66A793-5D71-4235-8AB5-A5885DE0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3EA166-6C3C-4E1D-88F8-149F24F0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8B9B32-0596-40E3-949F-3293324A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C13E-89CE-4BB9-AB32-EEA0EF7B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43AF4F-1F13-49A9-98CA-4F2416A6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9E96B1-5CF6-4A11-B994-38C20EBB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18E097-6B77-4364-89DC-3EFC8C83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38BE50-5178-4271-B629-436DFEDA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1B5630-1124-41F6-8DAD-33D131C6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18064F-3DC7-4595-A600-7F3BE3D4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C60C53-E01D-43F6-9D10-DC11B05E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0C19ED-BBE9-4742-8FB4-89697432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8FB9C8-A3E3-4FFD-ABF9-1ED44333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D23F5B-16D4-4380-A894-A9F7A5B5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8DFC-CA26-49B7-88A2-B4456BC7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567DA-F078-48BE-A12A-3636B59A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894E3-1856-4670-8342-0CFD76C0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D00601-18A0-4A68-AA8F-57B47080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39CAEA-FACD-4435-9E17-5EB015A6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05BF9F-A55B-4BED-9E0B-C5FABCEA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C1FE35-E7B0-40A3-94DF-851440B1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4C6B13-F4C1-4677-A5BD-86A3C538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95E1C6-5267-4AE9-AE69-12066327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6EC0AC-4C37-4EAE-B3BD-258FBB81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19C704-99A5-4BAB-B4D6-D2A2E7E3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137-581D-4495-ADB8-5FEC0F3A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33C9-9D4D-4E4E-B774-55620D81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532361-8935-49EB-A72F-47347C1F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5C6BDA-4B5D-4B99-9379-D85D257D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6B2215-FE00-44A7-98FC-8E384216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45102C-2E41-45FE-9040-26FAC710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1AF011-7E62-4A01-8E00-09CA72A2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A835-E794-4F83-9CBF-1834A6CE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5149-952C-4452-8E7E-8AED83BF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A0B9-DCAF-46FD-BC69-063881F3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4F2A-48D0-41DE-A9F6-5A7F6027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EB194-6B61-4F44-A522-496D0A12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AB134-7341-4ACD-B1A6-885595B2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FB5A1-D137-4E82-BA22-C8E36C0D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AA96A-CEDA-4415-AEC6-3ED21825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3BF5E-76D7-4B59-A6D3-242063D9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03B8-70E0-4B13-9629-8E0CBB11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247AC-7D48-46B6-825A-3F2BB803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29246-4A2D-4B80-966B-65EAF510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E29DC-AB0E-4B6E-81A9-211A7564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059AC-DE2C-49A0-8F6A-4DAC4D9E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D89A5-E8F3-466B-B48A-70DA59DD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A2E5-CB8C-4265-A9D8-AE22EBE8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CCE1F-43E6-45ED-A5A2-CCB34131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FD22A-CAA6-4F9B-99F8-CFCC5DEB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46B7D-AF48-4B45-9E94-AE966488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30BB5-61BB-42F0-AE31-8ADB868C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40CA-C763-4ECD-8596-5FE59B86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4B533-0AEB-4D56-A296-34D73321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A7505-BB46-44E9-9319-27252D5D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AE7C5-8BD8-4A80-BA3A-868C7331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9D23E-0CF6-406D-81F5-B92CF09D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9E9AD-D90A-42E9-8161-F15364C8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6C627-DF25-4BEF-AE55-F8A30E96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67E83-9F92-4681-AA47-2CB7E944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D3A36-95DA-4234-9707-C2E4271B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14C99-0817-4F53-AA3A-1C1685AC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C63E3-2EA8-4940-B2DF-2F66E259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1F51-5188-42D0-B16C-4CD5E811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B73B0-8625-442A-870B-3FA9199F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3C888-8DE0-4B3F-809B-3C047C91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97C75-9566-4D25-BA93-9037ED98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4D31D-A83E-49B9-9779-45EB8F55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5861A-A233-434A-95E3-5BDB69B3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EF29D-FB83-43F8-BBC7-B703A4E6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0892C-F9C5-4644-A59F-09EAE31F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04A23-EA14-448F-8928-2CAECCD8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7A50F-73E7-4048-8DA4-D906E776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4E683-36CF-41D6-85A0-DBABAE7B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E77-0F50-4C66-9D22-C26B83C9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1A525-FF70-4C44-97E0-F02F2E7B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B2BA2-2A3A-4665-8B85-58C63BFB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A7DD3-CC1D-4296-9B16-1D23F26D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9123F-C1A0-4394-B804-1779A782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F5F7D-AF09-4D41-AB8E-092CBF2D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BE112-B821-4AD6-BEE1-F2966083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D07F4-4684-48D4-A816-56DB27C5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02E77-8A1F-4DBD-AAF7-16B59D28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424F6-136D-4A44-B000-FB53E785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37BA9-8862-4B01-BDA9-504AA68F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CA2-F7E7-460B-B074-BAC49177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3D982-B81E-44D9-A32E-88D069AE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7698D-F464-450B-BE65-8DDB2AED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DF060-4853-444E-8C36-06ED031A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EFEBC-49A8-47A9-9565-63213393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8F8CD-9531-465C-BEA2-F90A4B0C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23867-119C-4F2F-B960-1BBCBA26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DFBD7-345F-42A8-AEA1-4A5F660D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F3B7A-A9CB-4FCB-A7F4-670B6D93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1626F-B825-4055-9A90-E68BF17D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D077A-FB3C-475E-9146-615D675F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8E7B-A511-4F3D-ADFD-DDD41A08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297AE-F69E-4698-9481-8572FD0F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1A597-D387-4912-B590-69882533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CB79E-A81F-4013-8868-266C8E48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9F7C8-A618-449F-810A-0187E8CC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0EFE8-3838-41D3-80E4-7F335FCC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B33EF-E6F6-419B-AABF-9F2321D1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16998-1CA8-48B1-BFF5-9C4D002A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D47B2-3C5A-4C14-BB51-F06E1ADE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EBC2D-D9DD-4D8E-8A8B-2B6722FD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5EF29-5060-45A8-9087-10A7FAB3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FC94-B240-4D92-A200-1DAFBB82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898C8-C035-4CE1-A98C-6291CD6B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786A3-9FAF-45EA-A23F-8BF7A703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F0633-8CCC-4340-8F59-ABF4A997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9AEC5-3896-4536-856A-57C6F5B0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8853B-529E-4334-AF6C-2A9745F7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2EF8E-9790-4BED-9512-0039DDB0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0370D-1CF0-4FCF-91D7-577A9D24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6449B-0B83-4AE9-9AF8-67C3F18A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5E477-3AF8-4C60-9B13-BE5673BA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65C6E-7189-429F-A495-534FD0D0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EAF1C-D1C1-44D3-8537-A8F8E46E6133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599E6-4A40-49E8-B42B-1F35F3C7B44A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0A3C8-6D2C-49C8-B87B-912BFB292C7E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4A195-8A78-4E9F-BFEF-03AA60B52ABB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4D7D2-433C-4627-8692-1C131807B7EB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59909-219D-432E-A6C2-16C2EB2EEE69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DF04C-F6BF-43E4-98F0-898814AAEE46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B3B15-63D6-4793-9A13-BC5B731BD64D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49719-9736-4925-96C1-5A7F9DFA1FE7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59EBC-23FA-4283-AE2D-A57D1783D8E2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1BFF7-C46D-4516-B3AC-5A38299962AE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3E918-6924-4E5B-A20F-98FE716332EC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048C0-3BF1-471C-8068-3F6AA3AEAF43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43F86-6052-4B10-8282-EFC9DA598C31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361E9-8B7E-46D2-B461-87B2388B099C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2B24C3-6313-4E61-8690-6531CAA726C6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>
                <a:gd name="textAreaLeft" fmla="*/ 0 w 1410480"/>
                <a:gd name="textAreaRight" fmla="*/ 1410840 w 141048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CBDA5-B5F8-48B5-9294-1B3822E9289B}" type="slidenum">
              <a:rPr b="0" lang="it-IT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760040" y="3127320"/>
            <a:ext cx="8915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178dbb"/>
                </a:solidFill>
                <a:latin typeface="Century Gothic"/>
              </a:rPr>
              <a:t>Modello di rete regionale</a:t>
            </a:r>
            <a:br>
              <a:rPr sz="2500"/>
            </a:br>
            <a:r>
              <a:rPr b="1" lang="it-IT" sz="2500" spc="-1" strike="noStrike">
                <a:solidFill>
                  <a:srgbClr val="178dbb"/>
                </a:solidFill>
                <a:latin typeface="Century Gothic"/>
              </a:rPr>
              <a:t>“Luoghi di Lavoro che Promuovono Salute”:</a:t>
            </a:r>
            <a:br>
              <a:rPr sz="2500"/>
            </a:br>
            <a:r>
              <a:rPr b="1" lang="en-US" sz="2500" spc="-1" strike="noStrike">
                <a:solidFill>
                  <a:srgbClr val="178dbb"/>
                </a:solidFill>
                <a:latin typeface="Century Gothic"/>
              </a:rPr>
              <a:t>Workplace Health Promotion (WHP) Sardegna</a:t>
            </a:r>
            <a:br>
              <a:rPr sz="2500"/>
            </a:br>
            <a:endParaRPr b="0" lang="en-US" sz="25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760040" y="5079960"/>
            <a:ext cx="891540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600" spc="-1" strike="noStrike">
                <a:solidFill>
                  <a:srgbClr val="595959"/>
                </a:solidFill>
                <a:latin typeface="Century Gothic"/>
              </a:rPr>
              <a:t>Piano Regionale della Prevenzione (PRP) 2020-2025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600" spc="-1" strike="noStrike">
                <a:solidFill>
                  <a:srgbClr val="595959"/>
                </a:solidFill>
                <a:latin typeface="Century Gothic"/>
              </a:rPr>
              <a:t> </a:t>
            </a:r>
            <a:r>
              <a:rPr b="1" lang="it-IT" sz="1600" spc="-1" strike="noStrike">
                <a:solidFill>
                  <a:srgbClr val="595959"/>
                </a:solidFill>
                <a:latin typeface="Century Gothic"/>
              </a:rPr>
              <a:t>Programma Predefinito PP3 “Luoghi di lavoro che promuovono salute”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78" name="Immagine 3" descr=""/>
          <p:cNvPicPr/>
          <p:nvPr/>
        </p:nvPicPr>
        <p:blipFill>
          <a:blip r:embed="rId1"/>
          <a:stretch/>
        </p:blipFill>
        <p:spPr>
          <a:xfrm>
            <a:off x="1760400" y="487440"/>
            <a:ext cx="867096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792440" y="755640"/>
            <a:ext cx="5984640" cy="5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178dbb"/>
                </a:solidFill>
                <a:latin typeface="Century Gothic"/>
              </a:rPr>
              <a:t>Come aderire alla Rete WHP Sardegna</a:t>
            </a:r>
            <a:br>
              <a:rPr sz="2400"/>
            </a:br>
            <a:endParaRPr b="0" lang="en-US" sz="24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1792080" y="1720440"/>
            <a:ext cx="8915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404040"/>
                </a:solidFill>
                <a:latin typeface="Century Gothic"/>
              </a:rPr>
              <a:t>L’adesione alla rete WHP Sardegna è </a:t>
            </a:r>
            <a:r>
              <a:rPr b="1" lang="it-IT" sz="1200" spc="-1" strike="noStrike">
                <a:solidFill>
                  <a:srgbClr val="404040"/>
                </a:solidFill>
                <a:latin typeface="Century Gothic"/>
              </a:rPr>
              <a:t>volontaria e gratuita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buClr>
                <a:srgbClr val="353535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404040"/>
                </a:solidFill>
                <a:latin typeface="Century Gothic"/>
              </a:rPr>
              <a:t>A seguito della partecipazione ad eventi conoscitivi organizzati dai Dipartimenti di Prevenzione, ogni azienda che intende aderire al Programma compila la </a:t>
            </a:r>
            <a:r>
              <a:rPr b="1" lang="it-IT" sz="1200" spc="-1" strike="noStrike">
                <a:solidFill>
                  <a:srgbClr val="404040"/>
                </a:solidFill>
                <a:latin typeface="Century Gothic"/>
              </a:rPr>
              <a:t>Scheda di Adesione </a:t>
            </a:r>
            <a:r>
              <a:rPr b="0" lang="it-IT" sz="1200" spc="-1" strike="noStrike">
                <a:solidFill>
                  <a:srgbClr val="404040"/>
                </a:solidFill>
                <a:latin typeface="Century Gothic"/>
              </a:rPr>
              <a:t>(</a:t>
            </a:r>
            <a:r>
              <a:rPr b="1" lang="it-IT" sz="1200" spc="-1" strike="noStrike">
                <a:solidFill>
                  <a:srgbClr val="404040"/>
                </a:solidFill>
                <a:latin typeface="Century Gothic"/>
              </a:rPr>
              <a:t>Allegato 1</a:t>
            </a:r>
            <a:r>
              <a:rPr b="0" lang="it-IT" sz="1200" spc="-1" strike="noStrike">
                <a:solidFill>
                  <a:srgbClr val="404040"/>
                </a:solidFill>
                <a:latin typeface="Century Gothic"/>
              </a:rPr>
              <a:t>).  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buClr>
                <a:srgbClr val="353535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buClr>
                <a:srgbClr val="353535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404040"/>
                </a:solidFill>
                <a:latin typeface="Century Gothic"/>
              </a:rPr>
              <a:t>A seguito della adesione l’azienda sarà contattata da </a:t>
            </a:r>
            <a:r>
              <a:rPr b="1" lang="it-IT" sz="1200" spc="-1" strike="noStrike">
                <a:solidFill>
                  <a:srgbClr val="404040"/>
                </a:solidFill>
                <a:latin typeface="Century Gothic"/>
              </a:rPr>
              <a:t>figure professionali dei Dipartimenti di Prevenzione della ASL territorialmente competente (appartenenti al Gruppo di lavoro WHP ASL) </a:t>
            </a:r>
            <a:r>
              <a:rPr b="0" lang="it-IT" sz="1200" spc="-1" strike="noStrike">
                <a:solidFill>
                  <a:srgbClr val="404040"/>
                </a:solidFill>
                <a:latin typeface="Century Gothic"/>
              </a:rPr>
              <a:t>, che fungeranno da supporto nella </a:t>
            </a:r>
            <a:r>
              <a:rPr b="1" lang="it-IT" sz="1200" spc="-1" strike="noStrike">
                <a:solidFill>
                  <a:srgbClr val="404040"/>
                </a:solidFill>
                <a:latin typeface="Century Gothic"/>
              </a:rPr>
              <a:t>valutazione/analisi di contesto </a:t>
            </a:r>
            <a:r>
              <a:rPr b="0" lang="it-IT" sz="1200" spc="-1" strike="noStrike">
                <a:solidFill>
                  <a:srgbClr val="404040"/>
                </a:solidFill>
                <a:latin typeface="Century Gothic"/>
              </a:rPr>
              <a:t>e nella </a:t>
            </a:r>
            <a:r>
              <a:rPr b="1" lang="it-IT" sz="1200" spc="-1" strike="noStrike">
                <a:solidFill>
                  <a:srgbClr val="404040"/>
                </a:solidFill>
                <a:latin typeface="Century Gothic"/>
              </a:rPr>
              <a:t>pianificazione</a:t>
            </a:r>
            <a:r>
              <a:rPr b="0" lang="it-IT" sz="1200" spc="-1" strike="noStrike">
                <a:solidFill>
                  <a:srgbClr val="404040"/>
                </a:solidFill>
                <a:latin typeface="Century Gothic"/>
              </a:rPr>
              <a:t> di interventi raccomandati e sostenibili previsti nel </a:t>
            </a:r>
            <a:r>
              <a:rPr b="0" i="1" lang="it-IT" sz="1200" spc="-1" strike="noStrike">
                <a:solidFill>
                  <a:srgbClr val="404040"/>
                </a:solidFill>
                <a:latin typeface="Century Gothic"/>
              </a:rPr>
              <a:t>“Documento regionale di buone pratiche raccomandate e sostenibili”</a:t>
            </a:r>
            <a:r>
              <a:rPr b="0" lang="it-IT" sz="12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200" spc="-1" strike="noStrike">
                <a:solidFill>
                  <a:srgbClr val="0070c0"/>
                </a:solidFill>
                <a:latin typeface="Century Gothic"/>
              </a:rPr>
              <a:t>I componenti del Gruppo di lavoro WHP ASL si rendono disponibili a prestare assistenza, durante tutto il processo, alle aziende aderenti e, nello specifico, alle figure aziendali facenti parte del Gruppo di lavoro WHP aziendale e/o al Referente aziendale WHP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ttangolo con angoli arrotondati 4"/>
          <p:cNvSpPr/>
          <p:nvPr/>
        </p:nvSpPr>
        <p:spPr>
          <a:xfrm>
            <a:off x="1541520" y="5394240"/>
            <a:ext cx="9591480" cy="94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879560" y="691920"/>
            <a:ext cx="3387600" cy="50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178dbb"/>
                </a:solidFill>
                <a:latin typeface="Century Gothic"/>
              </a:rPr>
              <a:t>Processo partecipato</a:t>
            </a:r>
            <a:br>
              <a:rPr sz="2400"/>
            </a:br>
            <a:endParaRPr b="0" lang="en-US" sz="24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1879200" y="1674720"/>
            <a:ext cx="89154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Ai fini della pianificazione del Programma, il </a:t>
            </a:r>
            <a:r>
              <a:rPr b="1" lang="it-IT" sz="1000" spc="-1" strike="noStrike">
                <a:solidFill>
                  <a:srgbClr val="404040"/>
                </a:solidFill>
                <a:latin typeface="Century Gothic"/>
              </a:rPr>
              <a:t>coinvolgimento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 di tutte le figure aziendali che possono ricoprire un ruolo attivo nell’organizzazione e nell’attuazione degli interventi prescelti con un processo partecipato, risulta fondamentale. 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Per le </a:t>
            </a:r>
            <a:r>
              <a:rPr b="1" lang="it-IT" sz="1000" spc="-1" strike="noStrike">
                <a:solidFill>
                  <a:srgbClr val="0070c0"/>
                </a:solidFill>
                <a:latin typeface="Century Gothic"/>
              </a:rPr>
              <a:t>GRANDI E MEDIE AZIENDE</a:t>
            </a:r>
            <a:r>
              <a:rPr b="0" lang="it-IT" sz="10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è richiesta la costituzione di un </a:t>
            </a:r>
            <a:r>
              <a:rPr b="1" lang="it-IT" sz="1000" spc="-1" strike="noStrike">
                <a:solidFill>
                  <a:srgbClr val="404040"/>
                </a:solidFill>
                <a:latin typeface="Century Gothic"/>
              </a:rPr>
              <a:t>Gruppo di lavoro WHP aziendale 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composto dalle figure della prevenzione (MC – medico competente, RSPP - Responsabile sicurezza prevenzione e protezione, RLS - Responsabile dei lavoratori per la sicurezza, ASPP - addetto al servizio di prevenzione e protezione). Nel contesto del Gruppo di Lavoro WHP aziendale deve essere individuato un </a:t>
            </a:r>
            <a:r>
              <a:rPr b="1" lang="it-IT" sz="1000" spc="-1" strike="noStrike">
                <a:solidFill>
                  <a:srgbClr val="404040"/>
                </a:solidFill>
                <a:latin typeface="Century Gothic"/>
              </a:rPr>
              <a:t>Referente aziendale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, che ricopre il ruolo di coordinatore interno e ha a funzione di connessione con il Dipartimento di Prevenzione competente per territorio. 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Per le </a:t>
            </a:r>
            <a:r>
              <a:rPr b="1" lang="it-IT" sz="1000" spc="-1" strike="noStrike">
                <a:solidFill>
                  <a:srgbClr val="0070c0"/>
                </a:solidFill>
                <a:latin typeface="Century Gothic"/>
              </a:rPr>
              <a:t>AZIENDE DI PICCOLE DIMENSIONI</a:t>
            </a:r>
            <a:r>
              <a:rPr b="0" lang="it-IT" sz="10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è richiesta l’individuazione di un </a:t>
            </a:r>
            <a:r>
              <a:rPr b="1" lang="it-IT" sz="1000" spc="-1" strike="noStrike">
                <a:solidFill>
                  <a:srgbClr val="404040"/>
                </a:solidFill>
                <a:latin typeface="Century Gothic"/>
              </a:rPr>
              <a:t>Referente aziendale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, scelto se possibile dalle figure della prevenzione dell’azienda. È compito del Referente informare i/le dipendenti sull’adesione dell’azienda alla Rete WHP Sardegna e sugli interventi previsti, di raccogliere le considerazioni ed eventuali proposte degli stessi con il fine di coinvolgere in modo attivo i/le dipendenti nello sviluppo del Programma. Ha inoltre funzione di connessione con il Dipartimento di Prevenzione competente per territorio.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2" name="Rettangolo 3"/>
          <p:cNvSpPr/>
          <p:nvPr/>
        </p:nvSpPr>
        <p:spPr>
          <a:xfrm>
            <a:off x="1879560" y="5581800"/>
            <a:ext cx="89154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entury Gothic"/>
              </a:rPr>
              <a:t>In un’ottica di processo partecipato, tutti i/le dipendenti devono essere informati e coinvolti in merito all’adesione dell’azienda al Programma e sui suoi sviluppi. 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816200" y="682200"/>
            <a:ext cx="4913280" cy="5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178dbb"/>
                </a:solidFill>
                <a:latin typeface="Century Gothic"/>
              </a:rPr>
              <a:t>Il ruolo del Medico competente</a:t>
            </a:r>
            <a:endParaRPr b="0" lang="en-US" sz="24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1815840" y="2004840"/>
            <a:ext cx="8915400" cy="37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A garanzia della sostenibilità e dell’efficacia del Programma, il coinvolgimento del Medico competente, laddove presente, risulta </a:t>
            </a:r>
            <a:r>
              <a:rPr b="1" lang="it-IT" sz="1500" spc="-1" strike="noStrike">
                <a:solidFill>
                  <a:srgbClr val="0070c0"/>
                </a:solidFill>
                <a:latin typeface="Century Gothic"/>
              </a:rPr>
              <a:t>particolarmente importante</a:t>
            </a: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Il medico competente: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è chiamato a </a:t>
            </a: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collaborare con il datore di lavoro per realizzare programmi di promozione della salute</a:t>
            </a: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, con interventi sia a valenza collettiva che a valenza individuale, promossi da quest’ultimo;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in ambito individuale, il medico competente può sviluppare iniziative di promozione della salute nel contesto opportunistico della visita medica finalizzata alla sorveglianza sanitaria, mediante </a:t>
            </a: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interventi di informazione e di counselling personalizzato</a:t>
            </a: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, con l’intento di orientare lavoratori e lavoratrici verso scelte e comportamenti positivi per la propria salute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760040" y="705960"/>
            <a:ext cx="891252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178dbb"/>
                </a:solidFill>
                <a:latin typeface="Century Gothic"/>
              </a:rPr>
              <a:t>Raccolta dati ai fini della valutazione e analisi del contesto lavorativo </a:t>
            </a:r>
            <a:br>
              <a:rPr sz="2400"/>
            </a:br>
            <a:endParaRPr b="0" lang="en-US" sz="24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1823760" y="1785600"/>
            <a:ext cx="8915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Per pianificare l’attuazione degli interventi prioritari</a:t>
            </a:r>
            <a:r>
              <a:rPr b="1" lang="it-IT" sz="1000" spc="-1" strike="noStrike">
                <a:solidFill>
                  <a:srgbClr val="404040"/>
                </a:solidFill>
                <a:latin typeface="Century Gothic"/>
              </a:rPr>
              <a:t>, il GdL WHP aziendale o il Referente WHP aziendale deve effettuare una preliminare analisi dei bisogni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, che consiste nel valutare la situazione di partenza e nell’impostare quindi un progetto di miglioramento.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A tal fine è prevista la compilazione di una </a:t>
            </a:r>
            <a:r>
              <a:rPr b="1" lang="it-IT" sz="1000" spc="-1" strike="noStrike">
                <a:solidFill>
                  <a:srgbClr val="404040"/>
                </a:solidFill>
                <a:latin typeface="Century Gothic"/>
              </a:rPr>
              <a:t>scheda di autovalutazione 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(</a:t>
            </a:r>
            <a:r>
              <a:rPr b="1" lang="it-IT" sz="1000" spc="-1" strike="noStrike">
                <a:solidFill>
                  <a:srgbClr val="404040"/>
                </a:solidFill>
                <a:latin typeface="Century Gothic"/>
              </a:rPr>
              <a:t>Allegato 2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), che contiene in una serie di informazioni su vari aspetti del contesto lavorativo, rilevanti per la salute da vari punti di vista (fisico, organizzativo, sociale, relazionale).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0070c0"/>
                </a:solidFill>
                <a:latin typeface="Century Gothic"/>
              </a:rPr>
              <a:t>L’autovalutazione è un’azione vincolante per la partecipazione alla Rete WHP Sardegna.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Questa analisi di contesto permette di identificare le criticità presenti e bisogni di salute non soddisfatti e di riconoscere situazioni di diseguaglianza di accesso a opportunità di salute.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La scheda di autovalutazione, deve essere inviato al </a:t>
            </a:r>
            <a:r>
              <a:rPr b="1" lang="it-IT" sz="1000" spc="-1" strike="noStrike">
                <a:solidFill>
                  <a:srgbClr val="404040"/>
                </a:solidFill>
                <a:latin typeface="Century Gothic"/>
              </a:rPr>
              <a:t>Referente aziendale del Programma al Dipartimento di prevenzione della ASL di competenza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 nell’anno di adesione, e, secondo una tempistica concordata, negli anni successivi. 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Può essere inoltre proposto un </a:t>
            </a:r>
            <a:r>
              <a:rPr b="1" lang="it-IT" sz="1000" spc="-1" strike="noStrike">
                <a:solidFill>
                  <a:srgbClr val="404040"/>
                </a:solidFill>
                <a:latin typeface="Century Gothic"/>
              </a:rPr>
              <a:t>questionario anonimo ai dipendenti 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(facoltativo, all’inizio del progetto e, di seguito, ad ogni anno di attività) che vada ad indagare aspetti di auto-percezione di fattori di rischio/cambiamenti. Questo strumento risulta essere molto utile nel coinvolgere i lavoratori nel processo e permettere una valutazione in termini di impatto delle attività proposte dall’azienda.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806120" y="687240"/>
            <a:ext cx="228924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178dbb"/>
                </a:solidFill>
                <a:latin typeface="Century Gothic"/>
              </a:rPr>
              <a:t>Pianificazione </a:t>
            </a:r>
            <a:br>
              <a:rPr sz="2400"/>
            </a:br>
            <a:endParaRPr b="0" lang="en-US" sz="24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1806120" y="1355760"/>
            <a:ext cx="89154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Sulla base di quanto emerso dall’analisi di contesto, il Gruppo di Lavoro WHP aziendale/Referente WHP aziendale procederà alla </a:t>
            </a:r>
            <a:r>
              <a:rPr b="1" lang="it-IT" sz="1000" spc="-1" strike="noStrike">
                <a:solidFill>
                  <a:srgbClr val="404040"/>
                </a:solidFill>
                <a:latin typeface="Century Gothic"/>
              </a:rPr>
              <a:t>pianificazione degli interventi di miglioramento 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attingendo dalle buone pratiche, individuate nel </a:t>
            </a:r>
            <a:r>
              <a:rPr b="1" lang="it-IT" sz="1000" spc="-1" strike="noStrike">
                <a:solidFill>
                  <a:srgbClr val="404040"/>
                </a:solidFill>
                <a:latin typeface="Century Gothic"/>
              </a:rPr>
              <a:t>«</a:t>
            </a:r>
            <a:r>
              <a:rPr b="1" i="1" lang="it-IT" sz="1000" spc="-1" strike="noStrike">
                <a:solidFill>
                  <a:srgbClr val="404040"/>
                </a:solidFill>
                <a:latin typeface="Century Gothic"/>
              </a:rPr>
              <a:t>Documento regionale di buone pratiche raccomandate e sostenibili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»</a:t>
            </a:r>
            <a:r>
              <a:rPr b="1" lang="it-IT" sz="1000" spc="-1" strike="noStrike">
                <a:solidFill>
                  <a:srgbClr val="404040"/>
                </a:solidFill>
                <a:latin typeface="Century Gothic"/>
              </a:rPr>
              <a:t>, 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suddivise nelle diverse aree tematiche individuate nel Programma (vedi slide 4).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Attraverso la compilazione di una </a:t>
            </a:r>
            <a:r>
              <a:rPr b="1" lang="it-IT" sz="1000" spc="-1" strike="noStrike">
                <a:solidFill>
                  <a:srgbClr val="404040"/>
                </a:solidFill>
                <a:latin typeface="Century Gothic"/>
              </a:rPr>
              <a:t>scheda dedicato alla fase di pianificazione delle attività annuali 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(</a:t>
            </a:r>
            <a:r>
              <a:rPr b="1" lang="it-IT" sz="1000" spc="-1" strike="noStrike">
                <a:solidFill>
                  <a:srgbClr val="404040"/>
                </a:solidFill>
                <a:latin typeface="Century Gothic"/>
              </a:rPr>
              <a:t>Allegato 3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), gli interventi prescelti devono essere comunicati al Dipartimento di prevenzione della ASL territorialmente competente. 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Ai fini del riconoscimento di “Luogo di lavoro che Promuove Salute”, le aziende dovranno realizzare, quale standard minimo, le seguenti azioni: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Century Gothic"/>
              </a:rPr>
              <a:t>PRIMO ANNO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: almeno </a:t>
            </a:r>
            <a:r>
              <a:rPr b="1" lang="it-IT" sz="1000" spc="-1" strike="noStrike">
                <a:solidFill>
                  <a:srgbClr val="0070c0"/>
                </a:solidFill>
                <a:latin typeface="Century Gothic"/>
              </a:rPr>
              <a:t>una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 pratica in </a:t>
            </a:r>
            <a:r>
              <a:rPr b="1" lang="it-IT" sz="1000" spc="-1" strike="noStrike">
                <a:solidFill>
                  <a:srgbClr val="0070c0"/>
                </a:solidFill>
                <a:latin typeface="Century Gothic"/>
              </a:rPr>
              <a:t>una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 delle aree tematiche;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Century Gothic"/>
              </a:rPr>
              <a:t>SECONDO ANNO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: almeno </a:t>
            </a:r>
            <a:r>
              <a:rPr b="1" lang="it-IT" sz="1000" spc="-1" strike="noStrike">
                <a:solidFill>
                  <a:srgbClr val="0070c0"/>
                </a:solidFill>
                <a:latin typeface="Century Gothic"/>
              </a:rPr>
              <a:t>una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 pratica sulle altre aree tematiche, mantenendo attive le pratiche attuate l'anno precedente;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Century Gothic"/>
              </a:rPr>
              <a:t>TERZO ANNO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: almeno </a:t>
            </a:r>
            <a:r>
              <a:rPr b="1" lang="it-IT" sz="1000" spc="-1" strike="noStrike">
                <a:solidFill>
                  <a:srgbClr val="0070c0"/>
                </a:solidFill>
                <a:latin typeface="Century Gothic"/>
              </a:rPr>
              <a:t>un’ulteriore pratica</a:t>
            </a:r>
            <a:r>
              <a:rPr b="0" lang="it-IT" sz="10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su una delle altre aree tematiche, mantenendo attive le pratiche attuate negli anni precedenti; 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000" spc="-1" strike="noStrike">
                <a:solidFill>
                  <a:srgbClr val="404040"/>
                </a:solidFill>
                <a:latin typeface="Century Gothic"/>
              </a:rPr>
              <a:t>ANNI SUCCESSIVI</a:t>
            </a:r>
            <a:r>
              <a:rPr b="0" lang="it-IT" sz="1000" spc="-1" strike="noStrike">
                <a:solidFill>
                  <a:srgbClr val="404040"/>
                </a:solidFill>
                <a:latin typeface="Century Gothic"/>
              </a:rPr>
              <a:t>: dovrà garantire il mantenimento delle pratiche attuate negli anni precedenti ed eventualmente attivarne delle altre</a:t>
            </a:r>
            <a:endParaRPr b="0" lang="en-US" sz="1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9" name="Rettangolo 3"/>
          <p:cNvSpPr/>
          <p:nvPr/>
        </p:nvSpPr>
        <p:spPr>
          <a:xfrm>
            <a:off x="3048120" y="5946840"/>
            <a:ext cx="609588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200" spc="-1" strike="noStrike">
                <a:solidFill>
                  <a:srgbClr val="0070c0"/>
                </a:solidFill>
                <a:latin typeface="Century Gothic"/>
              </a:rPr>
              <a:t>La scelta delle aree sulle quali attivare iniziative è a discrezione dell’azienda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815840" y="682200"/>
            <a:ext cx="3003480" cy="5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178dbb"/>
                </a:solidFill>
                <a:latin typeface="Century Gothic"/>
              </a:rPr>
              <a:t>Rendicontazione</a:t>
            </a:r>
            <a:br>
              <a:rPr sz="2400"/>
            </a:br>
            <a:endParaRPr b="0" lang="en-US" sz="24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1815840" y="1356840"/>
            <a:ext cx="8915400" cy="6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404040"/>
                </a:solidFill>
                <a:latin typeface="Century Gothic"/>
              </a:rPr>
              <a:t>Entro il mese di </a:t>
            </a:r>
            <a:r>
              <a:rPr b="1" lang="it-IT" sz="900" spc="-1" strike="noStrike">
                <a:solidFill>
                  <a:srgbClr val="404040"/>
                </a:solidFill>
                <a:latin typeface="Century Gothic"/>
              </a:rPr>
              <a:t>gennaio dell’anno successivo</a:t>
            </a:r>
            <a:r>
              <a:rPr b="0" lang="it-IT" sz="900" spc="-1" strike="noStrike">
                <a:solidFill>
                  <a:srgbClr val="404040"/>
                </a:solidFill>
                <a:latin typeface="Century Gothic"/>
              </a:rPr>
              <a:t>, le aziende aderenti autocertificheranno, mediante la compilazione di una </a:t>
            </a:r>
            <a:r>
              <a:rPr b="1" lang="it-IT" sz="900" spc="-1" strike="noStrike">
                <a:solidFill>
                  <a:srgbClr val="404040"/>
                </a:solidFill>
                <a:latin typeface="Century Gothic"/>
              </a:rPr>
              <a:t>scheda di rendicontazione annuale (Allegato 4)</a:t>
            </a:r>
            <a:r>
              <a:rPr b="0" lang="it-IT" sz="900" spc="-1" strike="noStrike">
                <a:solidFill>
                  <a:srgbClr val="404040"/>
                </a:solidFill>
                <a:latin typeface="Century Gothic"/>
              </a:rPr>
              <a:t>, le buone pratiche WHP attivate nel corso dell’anno, inviandolo al </a:t>
            </a:r>
            <a:r>
              <a:rPr b="1" lang="it-IT" sz="900" spc="-1" strike="noStrike">
                <a:solidFill>
                  <a:srgbClr val="404040"/>
                </a:solidFill>
                <a:latin typeface="Century Gothic"/>
              </a:rPr>
              <a:t>Referente del Programma della ASL territorialmente competente</a:t>
            </a:r>
            <a:r>
              <a:rPr b="0" lang="it-IT" sz="900" spc="-1" strike="noStrike">
                <a:solidFill>
                  <a:srgbClr val="404040"/>
                </a:solidFill>
                <a:latin typeface="Century Gothic"/>
              </a:rPr>
              <a:t>. </a:t>
            </a: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2" name="Freccia a pentagono 3"/>
          <p:cNvSpPr/>
          <p:nvPr/>
        </p:nvSpPr>
        <p:spPr>
          <a:xfrm>
            <a:off x="0" y="2333520"/>
            <a:ext cx="1581120" cy="52884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528840"/>
              <a:gd name="textAreaBottom" fmla="*/ 528840 h 5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95" y="0"/>
                </a:lnTo>
                <a:lnTo>
                  <a:pt x="21600" y="10800"/>
                </a:lnTo>
                <a:lnTo>
                  <a:pt x="179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3535"/>
          </a:solidFill>
          <a:ln cap="rnd" w="1584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3" name="Titolo 1"/>
          <p:cNvSpPr/>
          <p:nvPr/>
        </p:nvSpPr>
        <p:spPr>
          <a:xfrm>
            <a:off x="1816200" y="2333520"/>
            <a:ext cx="2609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178dbb"/>
                </a:solidFill>
                <a:latin typeface="Century Gothic"/>
              </a:rPr>
              <a:t>Riconoscimenti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4" name="Segnaposto contenuto 2"/>
          <p:cNvSpPr/>
          <p:nvPr/>
        </p:nvSpPr>
        <p:spPr>
          <a:xfrm>
            <a:off x="1816200" y="3193920"/>
            <a:ext cx="8915400" cy="34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404040"/>
                </a:solidFill>
                <a:latin typeface="Century Gothic"/>
              </a:rPr>
              <a:t>In seguito alla valutazione degli interventi realizzati e alla verifica del raggiungimento dello standard minimo da parte della Asl competente per territorio, le aziende/enti/amministrazioni ricevono il </a:t>
            </a:r>
            <a:r>
              <a:rPr b="1" lang="it-IT" sz="900" spc="-1" strike="noStrike">
                <a:solidFill>
                  <a:srgbClr val="0070c0"/>
                </a:solidFill>
                <a:latin typeface="Century Gothic"/>
              </a:rPr>
              <a:t>riconoscimento di </a:t>
            </a:r>
            <a:r>
              <a:rPr b="1" i="1" lang="it-IT" sz="900" spc="-1" strike="noStrike">
                <a:solidFill>
                  <a:srgbClr val="0070c0"/>
                </a:solidFill>
                <a:latin typeface="Century Gothic"/>
              </a:rPr>
              <a:t>“Luogo di lavoro che Promuove Salute”</a:t>
            </a:r>
            <a:r>
              <a:rPr b="1" lang="it-IT" sz="900" spc="-1" strike="noStrike">
                <a:solidFill>
                  <a:srgbClr val="0070c0"/>
                </a:solidFill>
                <a:latin typeface="Century Gothic"/>
              </a:rPr>
              <a:t> oppure </a:t>
            </a:r>
            <a:r>
              <a:rPr b="1" i="1" lang="it-IT" sz="900" spc="-1" strike="noStrike">
                <a:solidFill>
                  <a:srgbClr val="0070c0"/>
                </a:solidFill>
                <a:latin typeface="Century Gothic"/>
              </a:rPr>
              <a:t>“Azienda che Promuove Salute”</a:t>
            </a:r>
            <a:r>
              <a:rPr b="0" lang="it-IT" sz="900" spc="-1" strike="noStrike">
                <a:solidFill>
                  <a:srgbClr val="404040"/>
                </a:solidFill>
                <a:latin typeface="Century Gothic"/>
              </a:rPr>
              <a:t> e il diritto di essere inserite nell’elenco delle aziende che aderiscono al Programma “Luoghi di Lavoro che Promuovono Salute”. 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404040"/>
                </a:solidFill>
                <a:latin typeface="Century Gothic"/>
              </a:rPr>
              <a:t>L’attestato di riconoscimento </a:t>
            </a:r>
            <a:r>
              <a:rPr b="1" lang="it-IT" sz="900" spc="-1" strike="noStrike">
                <a:solidFill>
                  <a:srgbClr val="404040"/>
                </a:solidFill>
                <a:latin typeface="Century Gothic"/>
              </a:rPr>
              <a:t>viene rilasciato dalla ASL competente con cadenza annuale</a:t>
            </a:r>
            <a:r>
              <a:rPr b="0" lang="it-IT" sz="900" spc="-1" strike="noStrike">
                <a:solidFill>
                  <a:srgbClr val="404040"/>
                </a:solidFill>
                <a:latin typeface="Century Gothic"/>
              </a:rPr>
              <a:t>, in modo da certificare un processo di continuo miglioramento. 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404040"/>
                </a:solidFill>
                <a:latin typeface="Century Gothic"/>
              </a:rPr>
              <a:t>La ASL invia alla regione l’elenco delle Aziende che hanno ottenuto il riconoscimento in sede di rendicontazione del Programma PP3.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900" spc="-1" strike="noStrike">
                <a:solidFill>
                  <a:srgbClr val="404040"/>
                </a:solidFill>
                <a:latin typeface="Century Gothic"/>
              </a:rPr>
              <a:t>Per facilitare le verifica della possibilità per le Aziende aderenti alla Rete WHP Sardegna di usufruire dello sconto denominato </a:t>
            </a:r>
            <a:r>
              <a:rPr b="1" lang="it-IT" sz="900" spc="-1" strike="noStrike">
                <a:solidFill>
                  <a:srgbClr val="404040"/>
                </a:solidFill>
                <a:latin typeface="Century Gothic"/>
              </a:rPr>
              <a:t>"oscillazione per prevenzione" (OT/23) conferito dall’INAIL</a:t>
            </a:r>
            <a:r>
              <a:rPr b="0" lang="it-IT" sz="900" spc="-1" strike="noStrike">
                <a:solidFill>
                  <a:srgbClr val="404040"/>
                </a:solidFill>
                <a:latin typeface="Century Gothic"/>
              </a:rPr>
              <a:t>, sarà predisposta a cura dello stesso Ente, una </a:t>
            </a:r>
            <a:r>
              <a:rPr b="1" lang="it-IT" sz="900" spc="-1" strike="noStrike">
                <a:solidFill>
                  <a:srgbClr val="404040"/>
                </a:solidFill>
                <a:latin typeface="Century Gothic"/>
              </a:rPr>
              <a:t>scheda di confronto </a:t>
            </a:r>
            <a:r>
              <a:rPr b="0" lang="it-IT" sz="900" spc="-1" strike="noStrike">
                <a:solidFill>
                  <a:srgbClr val="404040"/>
                </a:solidFill>
                <a:latin typeface="Century Gothic"/>
              </a:rPr>
              <a:t>tra gli interventi previsti dal “Modello di domanda per la riduzione del tasso medio  per prevenzione” per l’anno di riferimento, e gli interventi presenti nel “</a:t>
            </a:r>
            <a:r>
              <a:rPr b="0" i="1" lang="it-IT" sz="900" spc="-1" strike="noStrike">
                <a:solidFill>
                  <a:srgbClr val="404040"/>
                </a:solidFill>
                <a:latin typeface="Century Gothic"/>
              </a:rPr>
              <a:t>Documento regionale di pratiche raccomandate e sostenibili</a:t>
            </a:r>
            <a:r>
              <a:rPr b="0" lang="it-IT" sz="900" spc="-1" strike="noStrike">
                <a:solidFill>
                  <a:srgbClr val="404040"/>
                </a:solidFill>
                <a:latin typeface="Century Gothic"/>
              </a:rPr>
              <a:t>” e saranno organizzati, se necessario</a:t>
            </a:r>
            <a:r>
              <a:rPr b="1" lang="it-IT" sz="900" spc="-1" strike="noStrike">
                <a:solidFill>
                  <a:srgbClr val="404040"/>
                </a:solidFill>
                <a:latin typeface="Century Gothic"/>
              </a:rPr>
              <a:t>, incontri esplicativi </a:t>
            </a:r>
            <a:r>
              <a:rPr b="0" lang="it-IT" sz="900" spc="-1" strike="noStrike">
                <a:solidFill>
                  <a:srgbClr val="404040"/>
                </a:solidFill>
                <a:latin typeface="Century Gothic"/>
              </a:rPr>
              <a:t>in merito.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ttangolo con angoli arrotondati 3"/>
          <p:cNvSpPr/>
          <p:nvPr/>
        </p:nvSpPr>
        <p:spPr>
          <a:xfrm>
            <a:off x="1712880" y="2471760"/>
            <a:ext cx="9791640" cy="3438360"/>
          </a:xfrm>
          <a:prstGeom prst="roundRect">
            <a:avLst>
              <a:gd name="adj" fmla="val 16667"/>
            </a:avLst>
          </a:prstGeom>
          <a:solidFill>
            <a:srgbClr val="007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712520" y="686880"/>
            <a:ext cx="97916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178dbb"/>
                </a:solidFill>
                <a:latin typeface="Century Gothic"/>
              </a:rPr>
              <a:t>Qual è l’obiettivo del Programma Predefinito PP3 «Luoghi di lavoro che promuovono salute»?</a:t>
            </a:r>
            <a:endParaRPr b="0" lang="en-US" sz="28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2066400" y="2746080"/>
            <a:ext cx="9083880" cy="30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Il Programma Predefinito PP3 sostiene e favorisce la promozione della salute negli ambienti di lavoro, secondo il modello </a:t>
            </a: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Workplace Health Promotion (WHP)</a:t>
            </a: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 raccomandato dall’OMS (Organizzazione Mondiale della Sanità)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L’obiettivo è contribuire a </a:t>
            </a: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ridurre il carico prevenibile ed evitabile di morbosità, mortalità e disabilità delle malattie non trasmissibili</a:t>
            </a: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, intervenendo su fattori di rischio comportamentali e modificabili delle malattie cronico-degenerative, fattori non tradizionalmente associati al rischio lavorativo, e promuovendo l’invecchiamento attivo e in buona salute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bce4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ttangolo con angoli arrotondati 3"/>
          <p:cNvSpPr/>
          <p:nvPr/>
        </p:nvSpPr>
        <p:spPr>
          <a:xfrm>
            <a:off x="1227240" y="1427040"/>
            <a:ext cx="9610560" cy="400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1574280" y="1843200"/>
            <a:ext cx="89154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Century Gothic"/>
              </a:rPr>
              <a:t>Il Programma prevede la proposta di un percorso strutturato, che coinvolge </a:t>
            </a:r>
            <a:r>
              <a:rPr b="0" lang="it-IT" sz="1600" spc="-1" strike="noStrike" u="sng">
                <a:solidFill>
                  <a:srgbClr val="404040"/>
                </a:solidFill>
                <a:uFillTx/>
                <a:latin typeface="Century Gothic"/>
              </a:rPr>
              <a:t>in modo partecipato</a:t>
            </a:r>
            <a:r>
              <a:rPr b="0" lang="it-IT" sz="1600" spc="-1" strike="noStrike">
                <a:solidFill>
                  <a:srgbClr val="404040"/>
                </a:solidFill>
                <a:latin typeface="Century Gothic"/>
              </a:rPr>
              <a:t>: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Century Gothic"/>
              </a:rPr>
              <a:t>le </a:t>
            </a:r>
            <a:r>
              <a:rPr b="1" lang="it-IT" sz="1600" spc="-1" strike="noStrike">
                <a:solidFill>
                  <a:srgbClr val="404040"/>
                </a:solidFill>
                <a:latin typeface="Century Gothic"/>
              </a:rPr>
              <a:t>figure aziendali </a:t>
            </a: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strategiche</a:t>
            </a:r>
            <a:r>
              <a:rPr b="1" lang="it-IT" sz="1600" spc="-1" strike="noStrike">
                <a:solidFill>
                  <a:srgbClr val="404040"/>
                </a:solidFill>
                <a:latin typeface="Century Gothic"/>
              </a:rPr>
              <a:t> della prevenzione </a:t>
            </a:r>
            <a:r>
              <a:rPr b="0" lang="it-IT" sz="1600" spc="-1" strike="noStrike">
                <a:solidFill>
                  <a:srgbClr val="404040"/>
                </a:solidFill>
                <a:latin typeface="Century Gothic"/>
              </a:rPr>
              <a:t>(medico competente, responsabile del servizio di prevenzione e protezione (RSPP), rappresentante dei lavoratori per la sicurezza (RLS), addetto al servizio di prevenzione e protezione (ASPP)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600" spc="-1" strike="noStrike">
                <a:solidFill>
                  <a:srgbClr val="404040"/>
                </a:solidFill>
                <a:latin typeface="Century Gothic"/>
              </a:rPr>
              <a:t>rappresentanze sindacali e dei lavoratori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600" spc="-1" strike="noStrike">
                <a:solidFill>
                  <a:srgbClr val="404040"/>
                </a:solidFill>
                <a:latin typeface="Century Gothic"/>
              </a:rPr>
              <a:t>lavoratori e lavoratrici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1591920" y="835200"/>
            <a:ext cx="9007560" cy="51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Questo percorso impegna i datori di lavoro delle Aziende (pubbliche e private, comprese le Aziende sanitarie) e delle Amministrazioni pubbliche, a </a:t>
            </a: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mettere in atto azioni efficaci e sostenibili di cambiamento</a:t>
            </a: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, anche di tipo organizzativo–ambientale, dirette a </a:t>
            </a:r>
            <a:r>
              <a:rPr b="1" lang="it-IT" sz="1500" spc="-1" strike="noStrike">
                <a:solidFill>
                  <a:srgbClr val="404040"/>
                </a:solidFill>
                <a:latin typeface="Century Gothic"/>
              </a:rPr>
              <a:t>favorire l’adozione competente e consapevole di comportamenti salutari e di corretti stili di vita</a:t>
            </a: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, in particolare nei seguenti ambiti prioritari: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buClr>
                <a:srgbClr val="35353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500" spc="-1" strike="noStrike">
                <a:solidFill>
                  <a:srgbClr val="1d436d"/>
                </a:solidFill>
                <a:latin typeface="Century Gothic"/>
              </a:rPr>
              <a:t>Tabagismo</a:t>
            </a:r>
            <a:r>
              <a:rPr b="0" lang="it-IT" sz="1500" spc="-1" strike="noStrike">
                <a:solidFill>
                  <a:srgbClr val="000000"/>
                </a:solidFill>
                <a:latin typeface="Century Gothic"/>
              </a:rPr>
              <a:t>;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buClr>
                <a:srgbClr val="35353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500" spc="-1" strike="noStrike">
                <a:solidFill>
                  <a:srgbClr val="1d436d"/>
                </a:solidFill>
                <a:latin typeface="Century Gothic"/>
              </a:rPr>
              <a:t>Consumo dannoso di alcol e altre dipendenze</a:t>
            </a:r>
            <a:r>
              <a:rPr b="0" lang="it-IT" sz="1500" spc="-1" strike="noStrike">
                <a:solidFill>
                  <a:srgbClr val="000000"/>
                </a:solidFill>
                <a:latin typeface="Century Gothic"/>
              </a:rPr>
              <a:t>;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buClr>
                <a:srgbClr val="35353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500" spc="-1" strike="noStrike">
                <a:solidFill>
                  <a:srgbClr val="1d436d"/>
                </a:solidFill>
                <a:latin typeface="Century Gothic"/>
              </a:rPr>
              <a:t>Attività fisica</a:t>
            </a:r>
            <a:r>
              <a:rPr b="0" lang="it-IT" sz="1500" spc="-1" strike="noStrike">
                <a:solidFill>
                  <a:srgbClr val="000000"/>
                </a:solidFill>
                <a:latin typeface="Century Gothic"/>
              </a:rPr>
              <a:t>;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buClr>
                <a:srgbClr val="35353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500" spc="-1" strike="noStrike">
                <a:solidFill>
                  <a:srgbClr val="1d436d"/>
                </a:solidFill>
                <a:latin typeface="Century Gothic"/>
              </a:rPr>
              <a:t>Alimentazione</a:t>
            </a:r>
            <a:r>
              <a:rPr b="0" lang="it-IT" sz="1500" spc="-1" strike="noStrike">
                <a:solidFill>
                  <a:srgbClr val="000000"/>
                </a:solidFill>
                <a:latin typeface="Century Gothic"/>
              </a:rPr>
              <a:t>;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buClr>
                <a:srgbClr val="35353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500" spc="-1" strike="noStrike">
                <a:solidFill>
                  <a:srgbClr val="1d436d"/>
                </a:solidFill>
                <a:latin typeface="Century Gothic"/>
              </a:rPr>
              <a:t>Conciliazione tempi di vita–lavoro e promozione del benessere personale e sociale</a:t>
            </a:r>
            <a:r>
              <a:rPr b="0" lang="it-IT" sz="1500" spc="-1" strike="noStrike">
                <a:solidFill>
                  <a:srgbClr val="000000"/>
                </a:solidFill>
                <a:latin typeface="Century Gothic"/>
              </a:rPr>
              <a:t>;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buClr>
                <a:srgbClr val="353535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Promozione dei Programmi organizzati di </a:t>
            </a:r>
            <a:r>
              <a:rPr b="1" lang="it-IT" sz="1500" spc="-1" strike="noStrike">
                <a:solidFill>
                  <a:srgbClr val="1d436d"/>
                </a:solidFill>
                <a:latin typeface="Century Gothic"/>
              </a:rPr>
              <a:t>Screening Oncologici</a:t>
            </a: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, del Programma di prevenzione dell’</a:t>
            </a:r>
            <a:r>
              <a:rPr b="1" lang="it-IT" sz="1500" spc="-1" strike="noStrike">
                <a:solidFill>
                  <a:srgbClr val="1d436d"/>
                </a:solidFill>
                <a:latin typeface="Century Gothic"/>
              </a:rPr>
              <a:t>Infezione da HCV </a:t>
            </a:r>
            <a:r>
              <a:rPr b="0" lang="it-IT" sz="1500" spc="-1" strike="noStrike">
                <a:solidFill>
                  <a:srgbClr val="404040"/>
                </a:solidFill>
                <a:latin typeface="Century Gothic"/>
              </a:rPr>
              <a:t>e delle </a:t>
            </a:r>
            <a:r>
              <a:rPr b="1" lang="it-IT" sz="1500" spc="-1" strike="noStrike">
                <a:solidFill>
                  <a:srgbClr val="1d436d"/>
                </a:solidFill>
                <a:latin typeface="Century Gothic"/>
              </a:rPr>
              <a:t>Vaccinazioni</a:t>
            </a:r>
            <a:r>
              <a:rPr b="0" lang="it-IT" sz="15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bce4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ttangolo con angoli arrotondati 7"/>
          <p:cNvSpPr/>
          <p:nvPr/>
        </p:nvSpPr>
        <p:spPr>
          <a:xfrm>
            <a:off x="563400" y="4081320"/>
            <a:ext cx="11123640" cy="156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1638000" y="1460520"/>
            <a:ext cx="891540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Gli operatori del SSR sono chiamati a supportare attivamente sia i </a:t>
            </a:r>
            <a:r>
              <a:rPr b="0" lang="it-IT" sz="1800" spc="-1" strike="noStrike" u="sng">
                <a:solidFill>
                  <a:srgbClr val="404040"/>
                </a:solidFill>
                <a:uFillTx/>
                <a:latin typeface="Century Gothic"/>
              </a:rPr>
              <a:t>processi di auto-valutazione</a:t>
            </a: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 aziendali, sia i </a:t>
            </a:r>
            <a:r>
              <a:rPr b="0" lang="it-IT" sz="1800" spc="-1" strike="noStrike" u="sng">
                <a:solidFill>
                  <a:srgbClr val="404040"/>
                </a:solidFill>
                <a:uFillTx/>
                <a:latin typeface="Century Gothic"/>
              </a:rPr>
              <a:t>processi di pianificazione e attuazione </a:t>
            </a: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delle azioni che le aziende sceglieranno di intraprendere, facendo riferimento al  </a:t>
            </a:r>
            <a:r>
              <a:rPr b="1" i="1" lang="it-IT" sz="1800" spc="-1" strike="noStrike">
                <a:solidFill>
                  <a:srgbClr val="404040"/>
                </a:solidFill>
                <a:latin typeface="Century Gothic"/>
              </a:rPr>
              <a:t>“Documento regionale di buone pratiche raccomandate e sostenibili”</a:t>
            </a: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7" name="Rettangolo 6"/>
          <p:cNvSpPr/>
          <p:nvPr/>
        </p:nvSpPr>
        <p:spPr>
          <a:xfrm>
            <a:off x="689040" y="4317840"/>
            <a:ext cx="10871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L’obiettivo è quello di rendere il luogo di lavoro un ambiente favorevole alla salute, riducendo al contempo le disuguaglianze di salute determinate da condizioni sociali ed economiche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ttangolo con angoli arrotondati 3"/>
          <p:cNvSpPr/>
          <p:nvPr/>
        </p:nvSpPr>
        <p:spPr>
          <a:xfrm>
            <a:off x="1373040" y="2141640"/>
            <a:ext cx="9792000" cy="3440160"/>
          </a:xfrm>
          <a:prstGeom prst="roundRect">
            <a:avLst>
              <a:gd name="adj" fmla="val 16667"/>
            </a:avLst>
          </a:prstGeom>
          <a:solidFill>
            <a:srgbClr val="007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793520" y="711360"/>
            <a:ext cx="922500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178dbb"/>
                </a:solidFill>
                <a:latin typeface="Century Gothic"/>
              </a:rPr>
              <a:t>Rete regionale Workplace Health Promotion (WHP) Sardegna</a:t>
            </a:r>
            <a:br>
              <a:rPr sz="2400"/>
            </a:br>
            <a:endParaRPr b="0" lang="en-US" sz="24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1985760" y="2599920"/>
            <a:ext cx="883260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La Rete Workplace Health Promotion (WHP) Sardegna è quindi costituita da</a:t>
            </a:r>
            <a:r>
              <a:rPr b="1" lang="it-IT" sz="2000" spc="-1" strike="noStrike">
                <a:solidFill>
                  <a:srgbClr val="404040"/>
                </a:solidFill>
                <a:latin typeface="Century Gothic"/>
              </a:rPr>
              <a:t> tutte le Aziende, pubbliche e private, comprese le Aziende sanitarie, e le Amministrazioni pubbliche, </a:t>
            </a:r>
            <a:r>
              <a:rPr b="0" lang="it-IT" sz="2000" spc="-1" strike="noStrike">
                <a:solidFill>
                  <a:srgbClr val="404040"/>
                </a:solidFill>
                <a:latin typeface="Century Gothic"/>
              </a:rPr>
              <a:t>che aderiscono ad </a:t>
            </a:r>
            <a:r>
              <a:rPr b="1" lang="it-IT" sz="2000" spc="-1" strike="noStrike">
                <a:solidFill>
                  <a:srgbClr val="404040"/>
                </a:solidFill>
                <a:latin typeface="Century Gothic"/>
              </a:rPr>
              <a:t>un programma condiviso per l’adozione di interventi e buone pratiche raccomandate e sostenibili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828800" y="736560"/>
            <a:ext cx="543888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178dbb"/>
                </a:solidFill>
                <a:latin typeface="Century Gothic"/>
              </a:rPr>
              <a:t>Le risorse della Rete WHP Sardegna</a:t>
            </a:r>
            <a:br>
              <a:rPr sz="2400"/>
            </a:br>
            <a:endParaRPr b="0" lang="en-US" sz="24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828800" y="1982520"/>
            <a:ext cx="927576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700" spc="-1" strike="noStrike">
                <a:solidFill>
                  <a:srgbClr val="404040"/>
                </a:solidFill>
                <a:latin typeface="Century Gothic"/>
              </a:rPr>
              <a:t>Gruppo regionale di coordinamento PP3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4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700" spc="-1" strike="noStrike">
                <a:solidFill>
                  <a:srgbClr val="404040"/>
                </a:solidFill>
                <a:latin typeface="Century Gothic"/>
              </a:rPr>
              <a:t>Gruppo di lavoro per la gestione della rete WHP a livello locale </a:t>
            </a: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(ASL territorialmente competente)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4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700" spc="-1" strike="noStrike">
                <a:solidFill>
                  <a:srgbClr val="404040"/>
                </a:solidFill>
                <a:latin typeface="Century Gothic"/>
              </a:rPr>
              <a:t>Figure aziendali della prevenzione</a:t>
            </a: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 (datore di lavoro, medico competente, RSPP, RSL, ASPP)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4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700" spc="-1" strike="noStrike">
                <a:solidFill>
                  <a:srgbClr val="404040"/>
                </a:solidFill>
                <a:latin typeface="Century Gothic"/>
              </a:rPr>
              <a:t>Risorse economiche </a:t>
            </a:r>
            <a:r>
              <a:rPr b="0" lang="it-IT" sz="1700" spc="-1" strike="noStrike">
                <a:solidFill>
                  <a:srgbClr val="404040"/>
                </a:solidFill>
                <a:latin typeface="Century Gothic"/>
              </a:rPr>
              <a:t>(le risorse destinate al finanziamento del PRP 2020-2025 – Programma Predefinito PP3 saranno utilizzate per la realizzazione di iniziative di formazione e comunicazione al fine dell’avvio, della gestione e del monitoraggio della Rete WHP Sardegna)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14120" y="745920"/>
            <a:ext cx="629604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178dbb"/>
                </a:solidFill>
                <a:latin typeface="Century Gothic"/>
              </a:rPr>
              <a:t>Benefici per le aziende aderenti alla Rete</a:t>
            </a:r>
            <a:br>
              <a:rPr sz="2400"/>
            </a:br>
            <a:endParaRPr b="0" lang="en-US" sz="24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4" name="Segnaposto contenuto 2"/>
          <p:cNvSpPr/>
          <p:nvPr/>
        </p:nvSpPr>
        <p:spPr>
          <a:xfrm>
            <a:off x="1914480" y="1554120"/>
            <a:ext cx="93409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404040"/>
                </a:solidFill>
                <a:latin typeface="Century Gothic"/>
              </a:rPr>
              <a:t>In che modo gli interventi di Workplace Health Promotion possono apportare dei benefici alle aziende aderenti?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Contribuendo a </a:t>
            </a:r>
            <a:r>
              <a:rPr b="0" lang="it-IT" sz="1100" spc="-1" strike="noStrike" u="sng">
                <a:solidFill>
                  <a:srgbClr val="404040"/>
                </a:solidFill>
                <a:uFillTx/>
                <a:latin typeface="Century Gothic"/>
              </a:rPr>
              <a:t>migliorare lo stato di salute dei lavoratori e delle lavoratrici</a:t>
            </a: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, con conseguente </a:t>
            </a:r>
            <a:r>
              <a:rPr b="0" lang="it-IT" sz="1100" spc="-1" strike="noStrike" u="sng">
                <a:solidFill>
                  <a:srgbClr val="404040"/>
                </a:solidFill>
                <a:uFillTx/>
                <a:latin typeface="Century Gothic"/>
              </a:rPr>
              <a:t>riduzione della probabilità di infortuni e malattie</a:t>
            </a: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, soprattutto quelle cronico-degenerative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Favorendo l’instaurarsi di condizioni che possono apportare </a:t>
            </a:r>
            <a:r>
              <a:rPr b="0" lang="it-IT" sz="1100" spc="-1" strike="noStrike" u="sng">
                <a:solidFill>
                  <a:srgbClr val="404040"/>
                </a:solidFill>
                <a:uFillTx/>
                <a:latin typeface="Century Gothic"/>
              </a:rPr>
              <a:t>loro maggiore gratificazione</a:t>
            </a: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Migliorando l’</a:t>
            </a:r>
            <a:r>
              <a:rPr b="0" lang="it-IT" sz="1100" spc="-1" strike="noStrike" u="sng">
                <a:solidFill>
                  <a:srgbClr val="404040"/>
                </a:solidFill>
                <a:uFillTx/>
                <a:latin typeface="Century Gothic"/>
              </a:rPr>
              <a:t>organizzazione del lavoro</a:t>
            </a: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Questi interventi possono quindi portare ad una </a:t>
            </a:r>
            <a:r>
              <a:rPr b="1" lang="it-IT" sz="1100" spc="-1" strike="noStrike">
                <a:solidFill>
                  <a:srgbClr val="404040"/>
                </a:solidFill>
                <a:latin typeface="Century Gothic"/>
              </a:rPr>
              <a:t>diminuzione dei costi relativi alle assenze per malattia</a:t>
            </a: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, un </a:t>
            </a:r>
            <a:r>
              <a:rPr b="1" lang="it-IT" sz="1100" spc="-1" strike="noStrike">
                <a:solidFill>
                  <a:srgbClr val="404040"/>
                </a:solidFill>
                <a:latin typeface="Century Gothic"/>
              </a:rPr>
              <a:t>minore turnover </a:t>
            </a: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del personale ed una </a:t>
            </a:r>
            <a:r>
              <a:rPr b="1" lang="it-IT" sz="1100" spc="-1" strike="noStrike">
                <a:solidFill>
                  <a:srgbClr val="404040"/>
                </a:solidFill>
                <a:latin typeface="Century Gothic"/>
              </a:rPr>
              <a:t>maggiore produttività</a:t>
            </a: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.  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L’attuazione di questi interventi può inoltre</a:t>
            </a:r>
            <a:r>
              <a:rPr b="1" lang="it-IT" sz="1100" spc="-1" strike="noStrike">
                <a:solidFill>
                  <a:srgbClr val="404040"/>
                </a:solidFill>
                <a:latin typeface="Century Gothic"/>
              </a:rPr>
              <a:t> promuovere un’immagine positiva delle aziende aderenti</a:t>
            </a: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, dimostrandosi attente alla salute e ai bisogni dei lavoratori e delle lavoratrici. 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Esiste inoltre la possibilità di ottenere </a:t>
            </a:r>
            <a:r>
              <a:rPr b="1" lang="it-IT" sz="1100" spc="-1" strike="noStrike">
                <a:solidFill>
                  <a:srgbClr val="404040"/>
                </a:solidFill>
                <a:latin typeface="Century Gothic"/>
              </a:rPr>
              <a:t>benefici di tipo fiscale e una riduzione sul premio dovuto all’INAIL</a:t>
            </a: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, che può conferire alle aziende che eseguono interventi per il miglioramento delle condizioni di prevenzione e tutela della salute e sicurezza nei luoghi di lavoro uno sconto denominato "oscillazione per prevenzione" (OT/23). 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819080" y="727200"/>
            <a:ext cx="716436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178dbb"/>
                </a:solidFill>
                <a:latin typeface="Century Gothic"/>
              </a:rPr>
              <a:t>Ruolo dei Dipartimenti di prevenzione</a:t>
            </a:r>
            <a:br>
              <a:rPr sz="2400"/>
            </a:br>
            <a:endParaRPr b="0" lang="en-US" sz="24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6" name="Segnaposto contenuto 2"/>
          <p:cNvSpPr/>
          <p:nvPr/>
        </p:nvSpPr>
        <p:spPr>
          <a:xfrm>
            <a:off x="1819440" y="1579680"/>
            <a:ext cx="89154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Tramite il </a:t>
            </a:r>
            <a:r>
              <a:rPr b="1" lang="it-IT" sz="1100" spc="-1" strike="noStrike">
                <a:solidFill>
                  <a:srgbClr val="0070c0"/>
                </a:solidFill>
                <a:latin typeface="Century Gothic"/>
              </a:rPr>
              <a:t>Gruppo di lavoro WHP ASL</a:t>
            </a: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, coordinato dal Responsabile aziendale per il PP3, essi ricoprono per le aziende aderenti un ruolo di accompagnamento e orientamento metodologico mediante: 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404040"/>
                </a:solidFill>
                <a:latin typeface="Century Gothic"/>
              </a:rPr>
              <a:t>organizzazione di eventi conoscitivi </a:t>
            </a: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destinati alle figure aziendali deputate alla prevenzione, con il fine di illustrare i contenuti e le finalità del Programma e di promuovere l’adesione alla Rete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404040"/>
                </a:solidFill>
                <a:latin typeface="Century Gothic"/>
              </a:rPr>
              <a:t>organizzazione di eventi formativi </a:t>
            </a: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destinati a Datori di lavoro, Referenti aziendali WHP e ai componenti dei Gruppi di Lavoro WHP aziendali, costituiti in seguito all’adesione dell’azienda alla Rete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404040"/>
                </a:solidFill>
                <a:latin typeface="Century Gothic"/>
              </a:rPr>
              <a:t>offerta di supporto metodologico </a:t>
            </a: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al referente aziendale WHP e/o ai Gruppi di Lavoro WHP aziendali, nell’analisi di contesto e nella pianificazione e realizzazione delle pratiche raccomandate; 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404040"/>
                </a:solidFill>
                <a:latin typeface="Century Gothic"/>
              </a:rPr>
              <a:t>offerta di materiali informativi sui vari temi di salute e informazioni sulle modalità di accesso ai Servizi dell’ASL</a:t>
            </a: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, nonché altre iniziative disponibili sul territorio di competenza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404040"/>
                </a:solidFill>
                <a:latin typeface="Century Gothic"/>
              </a:rPr>
              <a:t>monitoraggio</a:t>
            </a: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 e </a:t>
            </a:r>
            <a:r>
              <a:rPr b="1" lang="it-IT" sz="1100" spc="-1" strike="noStrike">
                <a:solidFill>
                  <a:srgbClr val="404040"/>
                </a:solidFill>
                <a:latin typeface="Century Gothic"/>
              </a:rPr>
              <a:t>valutazione</a:t>
            </a: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 degli interventi messi in atto e rendicontati dalle aziende aderenti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404040"/>
                </a:solidFill>
                <a:latin typeface="Century Gothic"/>
              </a:rPr>
              <a:t>attribuzione del </a:t>
            </a:r>
            <a:r>
              <a:rPr b="1" lang="it-IT" sz="1100" spc="-1" strike="noStrike">
                <a:solidFill>
                  <a:srgbClr val="404040"/>
                </a:solidFill>
                <a:latin typeface="Century Gothic"/>
              </a:rPr>
              <a:t>riconoscimento regionale di “Luogo di lavoro che promuove salute”.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2-07T11:11:26Z</dcterms:created>
  <dc:creator>Arianna Liori</dc:creator>
  <dc:description/>
  <dc:language>en-US</dc:language>
  <cp:lastModifiedBy>Arianna Liori</cp:lastModifiedBy>
  <dcterms:modified xsi:type="dcterms:W3CDTF">2024-02-12T12:05:00Z</dcterms:modified>
  <cp:revision>56</cp:revision>
  <dc:subject/>
  <dc:title>Modello di rete regionale “Luoghi di Lavoro che Promuovono Salute”: Workplace Health Promotion (WHP) Sardegna </dc:title>
</cp:coreProperties>
</file>